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41.png" ContentType="image/png"/>
  <Override PartName="/ppt/media/image3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31.png" ContentType="image/png"/>
  <Override PartName="/ppt/media/image29.png" ContentType="image/png"/>
  <Override PartName="/ppt/media/image40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6232680"/>
            <a:ext cx="9144000" cy="342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03480" y="2282760"/>
            <a:ext cx="6594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6232680"/>
            <a:ext cx="9144000" cy="3427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4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25.png"/><Relationship Id="rId2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63880" y="2336400"/>
            <a:ext cx="815328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Ready fo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S and CMS V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081160" y="4233960"/>
            <a:ext cx="64008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pan Sh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 Product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Corp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0920" y="236520"/>
            <a:ext cx="6657840" cy="217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987640" y="830160"/>
            <a:ext cx="3774960" cy="3996000"/>
          </a:xfrm>
          <a:prstGeom prst="rect">
            <a:avLst/>
          </a:prstGeom>
          <a:solidFill>
            <a:srgbClr val="c0c0c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4280" y="836640"/>
            <a:ext cx="2678040" cy="5746680"/>
          </a:xfrm>
          <a:prstGeom prst="rect">
            <a:avLst/>
          </a:prstGeom>
          <a:solidFill>
            <a:srgbClr val="c0c0c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 Page + Page Layout = Br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63960" y="4888080"/>
            <a:ext cx="587376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ter page defines how navigation is rend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 layout ASPX defines how page content is rend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gether they render the full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61960" y="965160"/>
            <a:ext cx="5632560" cy="5162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87280" y="741240"/>
            <a:ext cx="8542440" cy="3681360"/>
          </a:xfrm>
          <a:prstGeom prst="rect">
            <a:avLst/>
          </a:prstGeom>
          <a:solidFill>
            <a:srgbClr val="c0c0c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1840" y="95400"/>
            <a:ext cx="815184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age Layout + Page Content = Pa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7920" y="4119480"/>
            <a:ext cx="403236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57120" indent="-3571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4419720"/>
            <a:ext cx="40320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57120" indent="-35712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herited from W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ing, Check-in/Check-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60520" y="793800"/>
            <a:ext cx="7954920" cy="35956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b Based Page Autho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417680"/>
            <a:ext cx="841068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spcAft>
                <a:spcPts val="550"/>
              </a:spcAft>
              <a:buSzPct val="1235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ge content authoring in context of the si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550"/>
              </a:spcBef>
              <a:spcAft>
                <a:spcPts val="550"/>
              </a:spcAft>
              <a:buSzPct val="1235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nu-based Web author conso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550"/>
              </a:spcBef>
              <a:spcAft>
                <a:spcPts val="550"/>
              </a:spcAft>
              <a:buSzPct val="1235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ut-of-the-box set of content contr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550"/>
              </a:spcBef>
              <a:spcAft>
                <a:spcPts val="550"/>
              </a:spcAft>
              <a:buSzPct val="1235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ML contr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HTML-based editor w/ spell chec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diting with configurable sty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550"/>
              </a:spcBef>
              <a:spcAft>
                <a:spcPts val="550"/>
              </a:spcAft>
              <a:buSzPct val="1235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age control with asset pic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550"/>
              </a:spcBef>
              <a:spcAft>
                <a:spcPts val="550"/>
              </a:spcAft>
              <a:buSzPct val="1235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tachment/Link control with asset pic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TML and Text Re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417680"/>
            <a:ext cx="841068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e and maintain reusable content fragments in a centralized SharePoint Li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revision history, content approval, content deployment, user configurable meta properties and workflo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gments are inserted in a web page via a HTML editor and rich picker with content preview and configurable vie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e as references embedded inside the HTML content for each web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olve references at rendering time and support caching for high performance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31840" y="963720"/>
            <a:ext cx="5643360" cy="5894280"/>
          </a:xfrm>
          <a:prstGeom prst="rect">
            <a:avLst/>
          </a:prstGeom>
          <a:solidFill>
            <a:srgbClr val="c0c0c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560" y="5068800"/>
            <a:ext cx="5023080" cy="1666800"/>
          </a:xfrm>
          <a:prstGeom prst="rect">
            <a:avLst/>
          </a:prstGeom>
          <a:gradFill rotWithShape="0">
            <a:gsLst>
              <a:gs pos="0">
                <a:srgbClr val="526d89"/>
              </a:gs>
              <a:gs pos="50000">
                <a:srgbClr val="99ccff"/>
              </a:gs>
              <a:gs pos="100000">
                <a:srgbClr val="526d89"/>
              </a:gs>
            </a:gsLst>
            <a:lin ang="13500000"/>
          </a:gra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2080" y="257040"/>
            <a:ext cx="83818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 Reuse - Rend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5126040"/>
            <a:ext cx="1727280" cy="914400"/>
          </a:xfrm>
          <a:prstGeom prst="rect">
            <a:avLst/>
          </a:prstGeom>
          <a:gradFill rotWithShape="0">
            <a:gsLst>
              <a:gs pos="0">
                <a:srgbClr val="71191d"/>
              </a:gs>
              <a:gs pos="50000">
                <a:srgbClr val="b4282e"/>
              </a:gs>
              <a:gs pos="100000">
                <a:srgbClr val="71191d"/>
              </a:gs>
            </a:gsLst>
            <a:lin ang="13500000"/>
          </a:gradFill>
          <a:ln w="12600">
            <a:solidFill>
              <a:srgbClr val="b4282e"/>
            </a:solidFill>
            <a:miter/>
          </a:ln>
          <a:effectLst>
            <a:outerShdw dist="71785" dir="2700000" blurRad="0" rotWithShape="0">
              <a:srgbClr val="33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HTML fra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57440" y="5187960"/>
            <a:ext cx="1727280" cy="914400"/>
          </a:xfrm>
          <a:prstGeom prst="rect">
            <a:avLst/>
          </a:prstGeom>
          <a:gradFill rotWithShape="0">
            <a:gsLst>
              <a:gs pos="0">
                <a:srgbClr val="71191d"/>
              </a:gs>
              <a:gs pos="50000">
                <a:srgbClr val="b4282e"/>
              </a:gs>
              <a:gs pos="100000">
                <a:srgbClr val="71191d"/>
              </a:gs>
            </a:gsLst>
            <a:lin ang="13500000"/>
          </a:gradFill>
          <a:ln w="12600">
            <a:solidFill>
              <a:srgbClr val="b4282e"/>
            </a:solidFill>
            <a:miter/>
          </a:ln>
          <a:effectLst>
            <a:outerShdw dist="71785" dir="2700000" blurRad="0" rotWithShape="0">
              <a:srgbClr val="33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Textual  fra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5278320"/>
            <a:ext cx="1726920" cy="914400"/>
          </a:xfrm>
          <a:prstGeom prst="rect">
            <a:avLst/>
          </a:prstGeom>
          <a:gradFill rotWithShape="0">
            <a:gsLst>
              <a:gs pos="0">
                <a:srgbClr val="71191d"/>
              </a:gs>
              <a:gs pos="50000">
                <a:srgbClr val="b4282e"/>
              </a:gs>
              <a:gs pos="100000">
                <a:srgbClr val="71191d"/>
              </a:gs>
            </a:gsLst>
            <a:lin ang="13500000"/>
          </a:gradFill>
          <a:ln w="12600">
            <a:solidFill>
              <a:srgbClr val="b4282e"/>
            </a:solidFill>
            <a:miter/>
          </a:ln>
          <a:effectLst>
            <a:outerShdw dist="71785" dir="2700000" blurRad="0" rotWithShape="0">
              <a:srgbClr val="33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HTML fra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5430960"/>
            <a:ext cx="1797120" cy="1004760"/>
          </a:xfrm>
          <a:prstGeom prst="rect">
            <a:avLst/>
          </a:prstGeom>
          <a:gradFill rotWithShape="0">
            <a:gsLst>
              <a:gs pos="0">
                <a:srgbClr val="71191d"/>
              </a:gs>
              <a:gs pos="50000">
                <a:srgbClr val="b4282e"/>
              </a:gs>
              <a:gs pos="100000">
                <a:srgbClr val="71191d"/>
              </a:gs>
            </a:gsLst>
            <a:lin ang="13500000"/>
          </a:gradFill>
          <a:ln w="12600">
            <a:solidFill>
              <a:srgbClr val="b4282e"/>
            </a:solidFill>
            <a:miter/>
          </a:ln>
          <a:effectLst>
            <a:outerShdw dist="71785" dir="2700000" blurRad="0" rotWithShape="0">
              <a:srgbClr val="33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HTML fra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10080" y="5340240"/>
            <a:ext cx="1726920" cy="914400"/>
          </a:xfrm>
          <a:prstGeom prst="rect">
            <a:avLst/>
          </a:prstGeom>
          <a:gradFill rotWithShape="0">
            <a:gsLst>
              <a:gs pos="0">
                <a:srgbClr val="71191d"/>
              </a:gs>
              <a:gs pos="50000">
                <a:srgbClr val="b4282e"/>
              </a:gs>
              <a:gs pos="100000">
                <a:srgbClr val="71191d"/>
              </a:gs>
            </a:gsLst>
            <a:lin ang="13500000"/>
          </a:gradFill>
          <a:ln w="12600">
            <a:solidFill>
              <a:srgbClr val="b4282e"/>
            </a:solidFill>
            <a:miter/>
          </a:ln>
          <a:effectLst>
            <a:outerShdw dist="71785" dir="2700000" blurRad="0" rotWithShape="0">
              <a:srgbClr val="33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Textual  frag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62360" y="5492880"/>
            <a:ext cx="1727280" cy="914400"/>
          </a:xfrm>
          <a:prstGeom prst="rect">
            <a:avLst/>
          </a:prstGeom>
          <a:gradFill rotWithShape="0">
            <a:gsLst>
              <a:gs pos="0">
                <a:srgbClr val="71191d"/>
              </a:gs>
              <a:gs pos="50000">
                <a:srgbClr val="b4282e"/>
              </a:gs>
              <a:gs pos="100000">
                <a:srgbClr val="71191d"/>
              </a:gs>
            </a:gsLst>
            <a:lin ang="13500000"/>
          </a:gradFill>
          <a:ln w="12600">
            <a:solidFill>
              <a:srgbClr val="b4282e"/>
            </a:solidFill>
            <a:miter/>
          </a:ln>
          <a:effectLst>
            <a:outerShdw dist="71785" dir="2700000" blurRad="0" rotWithShape="0">
              <a:srgbClr val="33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20800" y="4684680"/>
            <a:ext cx="33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Semibold"/>
              </a:rPr>
              <a:t>Reusable Content 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13080" y="26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943440" y="3271680"/>
            <a:ext cx="1194840" cy="1084320"/>
            <a:chOff x="3943440" y="3271680"/>
            <a:chExt cx="1194840" cy="1084320"/>
          </a:xfrm>
        </p:grpSpPr>
        <p:sp>
          <p:nvSpPr>
            <p:cNvPr id="226" name=""/>
            <p:cNvSpPr/>
            <p:nvPr/>
          </p:nvSpPr>
          <p:spPr>
            <a:xfrm>
              <a:off x="3943440" y="3271680"/>
              <a:ext cx="1154160" cy="1084320"/>
            </a:xfrm>
            <a:prstGeom prst="ellipse">
              <a:avLst/>
            </a:prstGeom>
            <a:gradFill rotWithShape="0">
              <a:gsLst>
                <a:gs pos="0">
                  <a:srgbClr val="526d89"/>
                </a:gs>
                <a:gs pos="50000">
                  <a:srgbClr val="99ccff"/>
                </a:gs>
                <a:gs pos="100000">
                  <a:srgbClr val="526d89"/>
                </a:gs>
              </a:gsLst>
              <a:lin ang="13500000"/>
            </a:gra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74840" y="3579480"/>
              <a:ext cx="106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Semibold"/>
                </a:rPr>
                <a:t>Run-time rende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352520" y="5553000"/>
            <a:ext cx="1469880" cy="717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821040" y="5748480"/>
            <a:ext cx="1666800" cy="101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138320" y="6472080"/>
            <a:ext cx="162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egoe Semibold"/>
              </a:rPr>
              <a:t>HTML Frag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35360" y="6432480"/>
            <a:ext cx="203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egoe Semibold"/>
              </a:rPr>
              <a:t>Text Only Frag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401840" y="4411800"/>
            <a:ext cx="0" cy="645840"/>
          </a:xfrm>
          <a:prstGeom prst="line">
            <a:avLst/>
          </a:prstGeom>
          <a:ln w="76320">
            <a:solidFill>
              <a:srgbClr val="66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828960" y="1077840"/>
            <a:ext cx="1815840" cy="1716120"/>
            <a:chOff x="3828960" y="1077840"/>
            <a:chExt cx="1815840" cy="1716120"/>
          </a:xfrm>
        </p:grpSpPr>
        <p:pic>
          <p:nvPicPr>
            <p:cNvPr id="234" name="" descr=""/>
            <p:cNvPicPr/>
            <p:nvPr/>
          </p:nvPicPr>
          <p:blipFill>
            <a:blip r:embed="rId4"/>
            <a:stretch/>
          </p:blipFill>
          <p:spPr>
            <a:xfrm>
              <a:off x="3828960" y="1320840"/>
              <a:ext cx="171612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881160" y="1077840"/>
              <a:ext cx="17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egoe Semibold"/>
                </a:rPr>
                <a:t>Rendered Web P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04720" y="3635280"/>
            <a:ext cx="2698920" cy="771480"/>
          </a:xfrm>
          <a:prstGeom prst="rect">
            <a:avLst/>
          </a:prstGeom>
          <a:gradFill rotWithShape="0">
            <a:gsLst>
              <a:gs pos="0">
                <a:srgbClr val="71191d"/>
              </a:gs>
              <a:gs pos="50000">
                <a:srgbClr val="b4282e"/>
              </a:gs>
              <a:gs pos="100000">
                <a:srgbClr val="71191d"/>
              </a:gs>
            </a:gsLst>
            <a:lin ang="13500000"/>
          </a:gradFill>
          <a:ln w="12600">
            <a:solidFill>
              <a:srgbClr val="b4282e"/>
            </a:solidFill>
            <a:miter/>
          </a:ln>
          <a:effectLst>
            <a:outerShdw dist="71785" dir="2700000" blurRad="0" rotWithShape="0">
              <a:srgbClr val="33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7840" y="3333600"/>
            <a:ext cx="29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Semibold"/>
              </a:rPr>
              <a:t>Object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68800" y="3789360"/>
            <a:ext cx="639720" cy="1440"/>
          </a:xfrm>
          <a:prstGeom prst="line">
            <a:avLst/>
          </a:prstGeom>
          <a:ln w="76320">
            <a:solidFill>
              <a:srgbClr val="66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3960" y="1535040"/>
            <a:ext cx="2359080" cy="1454400"/>
          </a:xfrm>
          <a:prstGeom prst="rect">
            <a:avLst/>
          </a:prstGeom>
          <a:gradFill rotWithShape="0">
            <a:gsLst>
              <a:gs pos="0">
                <a:srgbClr val="3a741d"/>
              </a:gs>
              <a:gs pos="50000">
                <a:srgbClr val="66cc33"/>
              </a:gs>
              <a:gs pos="100000">
                <a:srgbClr val="3a741d"/>
              </a:gs>
            </a:gsLst>
            <a:lin ang="13500000"/>
          </a:gradFill>
          <a:ln w="12600">
            <a:solidFill>
              <a:srgbClr val="66cc33"/>
            </a:solidFill>
            <a:miter/>
          </a:ln>
          <a:effectLst>
            <a:outerShdw dist="71785" dir="2700000" blurRad="0" rotWithShape="0">
              <a:srgbClr val="33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5440" y="1957320"/>
            <a:ext cx="2130120" cy="820800"/>
          </a:xfrm>
          <a:prstGeom prst="rect">
            <a:avLst/>
          </a:prstGeom>
          <a:gradFill rotWithShape="0">
            <a:gsLst>
              <a:gs pos="0">
                <a:srgbClr val="526d89"/>
              </a:gs>
              <a:gs pos="50000">
                <a:srgbClr val="99ccff"/>
              </a:gs>
              <a:gs pos="100000">
                <a:srgbClr val="526d89"/>
              </a:gs>
            </a:gsLst>
            <a:lin ang="13500000"/>
          </a:gradFill>
          <a:ln w="12600">
            <a:solidFill>
              <a:srgbClr val="99ccff"/>
            </a:solidFill>
            <a:miter/>
          </a:ln>
          <a:effectLst>
            <a:outerShdw dist="71785" dir="2700000" blurRad="0" rotWithShape="0">
              <a:srgbClr val="33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9160" y="120348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Semibold"/>
              </a:rPr>
              <a:t>Page I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9640" y="1996920"/>
            <a:ext cx="182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egoe"/>
              </a:rPr>
              <a:t>HTML contents embedded with Fragment UR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3800" y="165744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"/>
              </a:rPr>
              <a:t>HTML field: Bod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0120" y="37432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egoe Semibold"/>
              </a:rPr>
              <a:t>Fragment URL, ACL, and 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3240" y="2770200"/>
            <a:ext cx="1097280" cy="563400"/>
          </a:xfrm>
          <a:prstGeom prst="line">
            <a:avLst/>
          </a:prstGeom>
          <a:ln w="76320">
            <a:solidFill>
              <a:srgbClr val="66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49600" y="2809440"/>
            <a:ext cx="1800" cy="474840"/>
          </a:xfrm>
          <a:prstGeom prst="line">
            <a:avLst/>
          </a:prstGeom>
          <a:ln w="76320">
            <a:solidFill>
              <a:srgbClr val="66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0240" y="1412640"/>
            <a:ext cx="8356680" cy="33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f the 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s the workflows with W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ing web pages will look and feel like approving any other item in W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efault approval in CMS is location based (by list) but can be configured to use different workflows per content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49200" y="963720"/>
            <a:ext cx="8177400" cy="3708360"/>
          </a:xfrm>
          <a:prstGeom prst="rect">
            <a:avLst/>
          </a:prstGeom>
          <a:solidFill>
            <a:srgbClr val="c0c0c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ich Client Page Autho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0920" y="4770000"/>
            <a:ext cx="84106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SzPct val="1940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vert documents of different formats into web pages (server si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SzPct val="1940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kage between document and page preser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SzPct val="1940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cument Content Type stores info about how and where to create p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SzPct val="1940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uggable converter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92120" y="1012680"/>
          <a:ext cx="7870680" cy="363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2120" y="1012680"/>
                    <a:ext cx="7870680" cy="36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433520" y="873000"/>
            <a:ext cx="6532560" cy="3657600"/>
          </a:xfrm>
          <a:prstGeom prst="rect">
            <a:avLst/>
          </a:prstGeom>
          <a:solidFill>
            <a:srgbClr val="c0c0c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d Document Conver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692360" y="973080"/>
          <a:ext cx="6029280" cy="342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973080"/>
                    <a:ext cx="602928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02840" y="4575240"/>
            <a:ext cx="841068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ML generated via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edded images are removed links to images are k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d inline styles can be kept or rem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efine using matching CSS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152880" y="4714920"/>
            <a:ext cx="2757240" cy="1279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558880" y="1747800"/>
            <a:ext cx="2757600" cy="1279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3152880" y="3584520"/>
            <a:ext cx="2757240" cy="1279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362400" y="4981680"/>
            <a:ext cx="234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fr/etudesdeca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90840" y="3828960"/>
            <a:ext cx="226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es/estudiosdecas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28880" y="1990800"/>
            <a:ext cx="2195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/en/casestudi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8600" y="1866960"/>
            <a:ext cx="990720" cy="1082160"/>
            <a:chOff x="228600" y="1866960"/>
            <a:chExt cx="990720" cy="1082160"/>
          </a:xfrm>
        </p:grpSpPr>
        <p:pic>
          <p:nvPicPr>
            <p:cNvPr id="266" name="" descr=""/>
            <p:cNvPicPr/>
            <p:nvPr/>
          </p:nvPicPr>
          <p:blipFill>
            <a:blip r:embed="rId5"/>
            <a:stretch/>
          </p:blipFill>
          <p:spPr>
            <a:xfrm>
              <a:off x="228600" y="1866960"/>
              <a:ext cx="59832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6"/>
            <a:stretch/>
          </p:blipFill>
          <p:spPr>
            <a:xfrm>
              <a:off x="609480" y="1928520"/>
              <a:ext cx="60984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7"/>
            <a:stretch/>
          </p:blipFill>
          <p:spPr>
            <a:xfrm>
              <a:off x="457200" y="2171520"/>
              <a:ext cx="609480" cy="77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1254240" y="3603600"/>
            <a:ext cx="990000" cy="1082880"/>
            <a:chOff x="1254240" y="3603600"/>
            <a:chExt cx="990000" cy="1082880"/>
          </a:xfrm>
        </p:grpSpPr>
        <p:pic>
          <p:nvPicPr>
            <p:cNvPr id="270" name="" descr=""/>
            <p:cNvPicPr/>
            <p:nvPr/>
          </p:nvPicPr>
          <p:blipFill>
            <a:blip r:embed="rId8"/>
            <a:stretch/>
          </p:blipFill>
          <p:spPr>
            <a:xfrm>
              <a:off x="1254240" y="3603600"/>
              <a:ext cx="597960" cy="7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9"/>
            <a:stretch/>
          </p:blipFill>
          <p:spPr>
            <a:xfrm>
              <a:off x="1634760" y="3665520"/>
              <a:ext cx="60948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0"/>
            <a:stretch/>
          </p:blipFill>
          <p:spPr>
            <a:xfrm>
              <a:off x="1482480" y="3908520"/>
              <a:ext cx="609120" cy="77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1190520" y="4898880"/>
            <a:ext cx="990720" cy="1082880"/>
            <a:chOff x="1190520" y="4898880"/>
            <a:chExt cx="990720" cy="1082880"/>
          </a:xfrm>
        </p:grpSpPr>
        <p:pic>
          <p:nvPicPr>
            <p:cNvPr id="274" name="" descr=""/>
            <p:cNvPicPr/>
            <p:nvPr/>
          </p:nvPicPr>
          <p:blipFill>
            <a:blip r:embed="rId11"/>
            <a:stretch/>
          </p:blipFill>
          <p:spPr>
            <a:xfrm>
              <a:off x="1190520" y="4898880"/>
              <a:ext cx="598320" cy="7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2"/>
            <a:stretch/>
          </p:blipFill>
          <p:spPr>
            <a:xfrm>
              <a:off x="1571400" y="4960800"/>
              <a:ext cx="60984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13"/>
            <a:stretch/>
          </p:blipFill>
          <p:spPr>
            <a:xfrm>
              <a:off x="1419120" y="5203800"/>
              <a:ext cx="609480" cy="77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"/>
          <p:cNvSpPr/>
          <p:nvPr/>
        </p:nvSpPr>
        <p:spPr>
          <a:xfrm>
            <a:off x="1213560" y="1903320"/>
            <a:ext cx="14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Work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Go li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1881360"/>
            <a:ext cx="2438280" cy="1029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need thi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ilable in Spa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French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285768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415296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4229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5372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29840" y="431640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29840" y="552780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99600" y="300816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fter Approv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4"/>
          <a:stretch/>
        </p:blipFill>
        <p:spPr>
          <a:xfrm>
            <a:off x="5062680" y="1711440"/>
            <a:ext cx="1425600" cy="13446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lingual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lingual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1068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sites in multiple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concept, they are localized mi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reality, there are exceptions and customizations for different reg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ed 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 creates multipl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ab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creates and maintains parallel versions of containers and ite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s ar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just for language trans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95360" y="2104920"/>
            <a:ext cx="6239160" cy="4068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lution We Offer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626000" y="1271520"/>
            <a:ext cx="1914480" cy="1063800"/>
            <a:chOff x="4626000" y="1271520"/>
            <a:chExt cx="1914480" cy="106380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4626000" y="1271520"/>
              <a:ext cx="1914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851360" y="1527120"/>
              <a:ext cx="14288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eb Cont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30120" y="2382840"/>
            <a:ext cx="1914480" cy="1063800"/>
            <a:chOff x="330120" y="2382840"/>
            <a:chExt cx="1914480" cy="106380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330120" y="2382840"/>
              <a:ext cx="1914480" cy="10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79600" y="2629080"/>
              <a:ext cx="11836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r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725560" y="3676680"/>
            <a:ext cx="1646280" cy="366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746440" y="2644920"/>
            <a:ext cx="1698480" cy="45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4848120" y="5440320"/>
            <a:ext cx="1384560" cy="401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3970440" y="4803840"/>
            <a:ext cx="2876400" cy="352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4844880" y="2879640"/>
            <a:ext cx="1528920" cy="35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6583320" y="2924280"/>
            <a:ext cx="1719360" cy="220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935600" y="4400640"/>
            <a:ext cx="946080" cy="207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8120" y="4727520"/>
            <a:ext cx="5784840" cy="0"/>
          </a:xfrm>
          <a:prstGeom prst="line">
            <a:avLst/>
          </a:prstGeom>
          <a:ln w="9360">
            <a:solidFill>
              <a:srgbClr val="8d4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494400" y="1095480"/>
            <a:ext cx="1833480" cy="1280880"/>
            <a:chOff x="6494400" y="1095480"/>
            <a:chExt cx="1833480" cy="1280880"/>
          </a:xfrm>
        </p:grpSpPr>
        <p:pic>
          <p:nvPicPr>
            <p:cNvPr id="98" name="" descr=""/>
            <p:cNvPicPr/>
            <p:nvPr/>
          </p:nvPicPr>
          <p:blipFill>
            <a:blip r:embed="rId12"/>
            <a:stretch/>
          </p:blipFill>
          <p:spPr>
            <a:xfrm>
              <a:off x="6494400" y="1095480"/>
              <a:ext cx="183348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08320" y="1328760"/>
              <a:ext cx="12276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mer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naly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arge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30120" y="3316320"/>
            <a:ext cx="1914480" cy="1063440"/>
            <a:chOff x="330120" y="3316320"/>
            <a:chExt cx="1914480" cy="1063440"/>
          </a:xfrm>
        </p:grpSpPr>
        <p:pic>
          <p:nvPicPr>
            <p:cNvPr id="101" name="" descr=""/>
            <p:cNvPicPr/>
            <p:nvPr/>
          </p:nvPicPr>
          <p:blipFill>
            <a:blip r:embed="rId13"/>
            <a:stretch/>
          </p:blipFill>
          <p:spPr>
            <a:xfrm>
              <a:off x="330120" y="3316320"/>
              <a:ext cx="1914480" cy="10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52960" y="3564000"/>
              <a:ext cx="14853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am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llabor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866960" y="2581200"/>
            <a:ext cx="723960" cy="69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1866960" y="3505320"/>
            <a:ext cx="723960" cy="695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5248440" y="1981080"/>
            <a:ext cx="695160" cy="723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7077240" y="1981080"/>
            <a:ext cx="695160" cy="72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ri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10680" cy="58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and target are loosely coup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 always share a content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use different layou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 can be at different versions/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arate appro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moved around (within lim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rget pages start with source page content, but can div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.e. target page can be sent out for trans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c and Manual m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g control” for choosing variation while brow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ice Pack 2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Bound virtual server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 box SSL termination sup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for Reverse Proxy and Alternate UR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for running side by side and on top of ASP.NET 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for Windows on Windows (WOW 64) x64 ed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d with support for Microsoft SQL Server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of the above minus support for ASP.NET 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d with support for Microsoft Visual Studio 200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d with support for .NET Framework 2.0 run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for master pages, auth/nav provider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27320" y="1547640"/>
            <a:ext cx="4629240" cy="4623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228600"/>
            <a:ext cx="89787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rePoint Investment Ar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03760" y="1295280"/>
            <a:ext cx="2740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cs/tasks/calendars, blogs, wikis, e-mail integration, project management “lite”, Outlook integration,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ffline docs/lis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491000" y="1523880"/>
            <a:ext cx="2141640" cy="2419560"/>
            <a:chOff x="4491000" y="1523880"/>
            <a:chExt cx="2141640" cy="241956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4491000" y="1523880"/>
              <a:ext cx="214164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503600" y="240660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Semibold"/>
                </a:rPr>
                <a:t>Collabor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40160" y="1530360"/>
            <a:ext cx="2128680" cy="2413080"/>
            <a:chOff x="2540160" y="1530360"/>
            <a:chExt cx="2128680" cy="2413080"/>
          </a:xfrm>
        </p:grpSpPr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2540160" y="1530360"/>
              <a:ext cx="212868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008160" y="2239920"/>
              <a:ext cx="157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Semibold"/>
                </a:rPr>
                <a:t>Busin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Semibold"/>
                </a:rPr>
                <a:t>Intellig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535640" y="2644920"/>
            <a:ext cx="2419200" cy="2419200"/>
            <a:chOff x="4535640" y="2644920"/>
            <a:chExt cx="2419200" cy="2419200"/>
          </a:xfrm>
        </p:grpSpPr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4535640" y="2644920"/>
              <a:ext cx="241920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425920" y="3668760"/>
              <a:ext cx="13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Semibold"/>
                </a:rPr>
                <a:t>Port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764400" y="3357720"/>
            <a:ext cx="200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erprise Portal template, Site Directory, MySites, social networking, privacy contro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07000" y="5337000"/>
            <a:ext cx="2997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nterprise scalability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extual relevance, rich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eople and business data sear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3720" y="3319560"/>
            <a:ext cx="191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 and Web forms based front-ends, LOB actions, pluggable SS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14480" y="1314360"/>
            <a:ext cx="2260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rver-based Excel spreadsheets and data visualization, Report Center, BI Web Parts, KPIs/Dashboar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90640" y="5370480"/>
            <a:ext cx="240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ted document management, records management, and Web content management with policies and workflo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219400" y="2658960"/>
            <a:ext cx="2411280" cy="2405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57360" y="3579840"/>
            <a:ext cx="13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Busines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465800" y="3781440"/>
            <a:ext cx="2141280" cy="2419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16560" y="48816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2563920" y="3787920"/>
            <a:ext cx="2128680" cy="2412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03400" y="476892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Con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emibold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49760" y="2975040"/>
            <a:ext cx="1717560" cy="172728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50000">
                <a:srgbClr val="174617"/>
              </a:gs>
              <a:gs pos="100000">
                <a:srgbClr val="339933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emibold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emibold"/>
              </a:rPr>
              <a:t>Ser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63080" y="3745080"/>
            <a:ext cx="1686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 Semibold"/>
              </a:rPr>
              <a:t>Workspaces, Mgm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 Semibold"/>
              </a:rPr>
              <a:t>Security, Storag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egoe Semibold"/>
              </a:rPr>
              <a:t>Topology, Site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3540000">
            <a:off x="4046760" y="2548440"/>
            <a:ext cx="2170080" cy="4343400"/>
          </a:xfrm>
          <a:prstGeom prst="flowChartDelay">
            <a:avLst/>
          </a:prstGeom>
          <a:solidFill>
            <a:srgbClr val="fdcb2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078760" y="0"/>
            <a:ext cx="1065240" cy="1206360"/>
            <a:chOff x="8078760" y="0"/>
            <a:chExt cx="1065240" cy="120636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8078760" y="0"/>
              <a:ext cx="10605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229600" y="490680"/>
              <a:ext cx="914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egoe Semibold"/>
                </a:rPr>
                <a:t>Cont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egoe Semibold"/>
                </a:rPr>
                <a:t>Managem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57200" y="1143000"/>
            <a:ext cx="82296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and Complianc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Content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MS 2002 fun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cument Manage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352520"/>
            <a:ext cx="838836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able Document Libraries and Reposit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xtensible content types with rich metada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heck-in/check-out with comprehensive version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arge document repositories and specialized library templat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874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flow and Appro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ustomizable workflows built on the Windows Workflow Found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ut of the box, serial and parallel workflows (e.g.“Document review/approval” and “Signature collection”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articipate &amp; initiate workflows from within preferred applic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874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and Trac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er item security and access contro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ut-of-the-box support for labeling, barcodes, electronic signatur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eep integration with Information Rights Management (IR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078760" y="0"/>
            <a:ext cx="1065240" cy="1206360"/>
            <a:chOff x="8078760" y="0"/>
            <a:chExt cx="1065240" cy="1206360"/>
          </a:xfrm>
        </p:grpSpPr>
        <p:pic>
          <p:nvPicPr>
            <p:cNvPr id="143" name="" descr=""/>
            <p:cNvPicPr/>
            <p:nvPr/>
          </p:nvPicPr>
          <p:blipFill>
            <a:blip r:embed="rId14"/>
            <a:stretch/>
          </p:blipFill>
          <p:spPr>
            <a:xfrm>
              <a:off x="8078760" y="0"/>
              <a:ext cx="10605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229600" y="490680"/>
              <a:ext cx="914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egoe Semibold"/>
                </a:rPr>
                <a:t>Cont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egoe Semibold"/>
                </a:rPr>
                <a:t>Managem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licy and Compli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964800"/>
            <a:ext cx="838836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lvl="1" marL="98748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ally controlled auditing, expiration &amp; retention poli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uditing of user actions and document histo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xcel based policy usage re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312"/>
              </a:spcBef>
              <a:spcAft>
                <a:spcPts val="349"/>
              </a:spcAft>
              <a:buSzPct val="1509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hival, retention and regulatory complia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pprove this item for destruction” action to manage expir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bility to manage “physical” records stored outside the reposito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ursuing DoD 5015.2 certification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687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-mail content as rec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fice “12” Outlook provides access to parts of the Record Repository alongside mail folder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326"/>
              </a:spcBef>
              <a:spcAft>
                <a:spcPts val="326"/>
              </a:spcAft>
              <a:buSzPct val="173981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nables drag and drop of e-mails from Outlook into the Reposito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078760" y="0"/>
            <a:ext cx="1065240" cy="1206360"/>
            <a:chOff x="8078760" y="0"/>
            <a:chExt cx="1065240" cy="1206360"/>
          </a:xfrm>
        </p:grpSpPr>
        <p:pic>
          <p:nvPicPr>
            <p:cNvPr id="148" name="" descr=""/>
            <p:cNvPicPr/>
            <p:nvPr/>
          </p:nvPicPr>
          <p:blipFill>
            <a:blip r:embed="rId12"/>
            <a:stretch/>
          </p:blipFill>
          <p:spPr>
            <a:xfrm>
              <a:off x="8078760" y="0"/>
              <a:ext cx="10605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229600" y="490680"/>
              <a:ext cx="914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egoe Semibold"/>
                </a:rPr>
                <a:t>Cont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egoe Semibold"/>
                </a:rPr>
                <a:t>Managem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b Content Management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8836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99"/>
              </a:spcBef>
              <a:spcAft>
                <a:spcPts val="400"/>
              </a:spcAft>
              <a:buSzPct val="1509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for Internet and Published Sit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300"/>
              </a:spcAft>
              <a:buSzPct val="18878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OB site templates with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exible site navigation control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300"/>
              </a:spcAft>
              <a:buSzPct val="18878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 based site manager for managing site structure &amp; cont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300"/>
              </a:spcAft>
              <a:buSzPct val="18878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omizable workflow and support for multilingual 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687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Web and Word Authoring cap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300"/>
              </a:spcAft>
              <a:buSzPct val="18878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web author HTML editor enables in context edi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300"/>
              </a:spcAft>
              <a:buSzPct val="18878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sset browser for rich web pag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300"/>
              </a:spcAft>
              <a:buSzPct val="188788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ver–side Word to HTML conver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687"/>
              </a:spcBef>
              <a:spcAft>
                <a:spcPts val="451"/>
              </a:spcAft>
              <a:buSzPct val="15095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Content Deployment and Publishing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300"/>
              </a:spcAft>
              <a:buSzPct val="188788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mated content deployment console with “quick deploy” overr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300"/>
              </a:spcAft>
              <a:buSzPct val="188788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scheduling and page expiry not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300"/>
              </a:spcAft>
              <a:buSzPct val="188788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ble, pluggable framework for document conver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078760" y="0"/>
            <a:ext cx="1065240" cy="1206360"/>
            <a:chOff x="8078760" y="0"/>
            <a:chExt cx="1065240" cy="1206360"/>
          </a:xfrm>
        </p:grpSpPr>
        <p:pic>
          <p:nvPicPr>
            <p:cNvPr id="153" name="" descr=""/>
            <p:cNvPicPr/>
            <p:nvPr/>
          </p:nvPicPr>
          <p:blipFill>
            <a:blip r:embed="rId14"/>
            <a:stretch/>
          </p:blipFill>
          <p:spPr>
            <a:xfrm>
              <a:off x="8078760" y="0"/>
              <a:ext cx="10605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229600" y="490680"/>
              <a:ext cx="914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egoe Semibold"/>
                </a:rPr>
                <a:t>Cont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egoe Semibold"/>
                </a:rPr>
                <a:t>Managem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3920" y="771480"/>
            <a:ext cx="8696160" cy="5553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025720" y="5200560"/>
            <a:ext cx="770040" cy="766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900600" y="2805120"/>
            <a:ext cx="1724040" cy="1895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961920" y="2685960"/>
            <a:ext cx="2895840" cy="71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961920" y="3600360"/>
            <a:ext cx="2895840" cy="714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961920" y="4514760"/>
            <a:ext cx="2895840" cy="714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409680" y="1771560"/>
            <a:ext cx="4000320" cy="9144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476280" y="885960"/>
            <a:ext cx="3867120" cy="1000080"/>
            <a:chOff x="476280" y="885960"/>
            <a:chExt cx="3867120" cy="1000080"/>
          </a:xfrm>
        </p:grpSpPr>
        <p:pic>
          <p:nvPicPr>
            <p:cNvPr id="164" name="" descr=""/>
            <p:cNvPicPr/>
            <p:nvPr/>
          </p:nvPicPr>
          <p:blipFill>
            <a:blip r:embed="rId9"/>
            <a:stretch/>
          </p:blipFill>
          <p:spPr>
            <a:xfrm>
              <a:off x="476280" y="885960"/>
              <a:ext cx="100980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0"/>
            <a:stretch/>
          </p:blipFill>
          <p:spPr>
            <a:xfrm>
              <a:off x="1905120" y="885960"/>
              <a:ext cx="100980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1"/>
            <a:stretch/>
          </p:blipFill>
          <p:spPr>
            <a:xfrm>
              <a:off x="3333960" y="885960"/>
              <a:ext cx="1009440" cy="10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1718280" y="28447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MS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37591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NET Framewo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73440" y="46735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2k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702320" y="885960"/>
            <a:ext cx="3985920" cy="5081400"/>
            <a:chOff x="4702320" y="885960"/>
            <a:chExt cx="3985920" cy="5081400"/>
          </a:xfrm>
        </p:grpSpPr>
        <p:pic>
          <p:nvPicPr>
            <p:cNvPr id="171" name="" descr=""/>
            <p:cNvPicPr/>
            <p:nvPr/>
          </p:nvPicPr>
          <p:blipFill>
            <a:blip r:embed="rId12"/>
            <a:stretch/>
          </p:blipFill>
          <p:spPr>
            <a:xfrm>
              <a:off x="6310440" y="5200560"/>
              <a:ext cx="76968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3"/>
            <a:stretch/>
          </p:blipFill>
          <p:spPr>
            <a:xfrm>
              <a:off x="5246640" y="3905280"/>
              <a:ext cx="28954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4"/>
            <a:stretch/>
          </p:blipFill>
          <p:spPr>
            <a:xfrm>
              <a:off x="5246640" y="3295800"/>
              <a:ext cx="28954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5"/>
            <a:stretch/>
          </p:blipFill>
          <p:spPr>
            <a:xfrm>
              <a:off x="5246640" y="2685960"/>
              <a:ext cx="289548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6"/>
            <a:stretch/>
          </p:blipFill>
          <p:spPr>
            <a:xfrm>
              <a:off x="5246640" y="4514760"/>
              <a:ext cx="289548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7"/>
            <a:stretch/>
          </p:blipFill>
          <p:spPr>
            <a:xfrm>
              <a:off x="4702320" y="1754280"/>
              <a:ext cx="3985920" cy="93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795920" y="885960"/>
              <a:ext cx="1009440" cy="1000080"/>
              <a:chOff x="4795920" y="885960"/>
              <a:chExt cx="1009440" cy="1000080"/>
            </a:xfrm>
          </p:grpSpPr>
          <p:pic>
            <p:nvPicPr>
              <p:cNvPr id="17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795920" y="885960"/>
                <a:ext cx="100944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5033880" y="1112760"/>
                <a:ext cx="533520" cy="142920"/>
              </a:xfrm>
              <a:prstGeom prst="rect">
                <a:avLst/>
              </a:prstGeom>
              <a:gradFill rotWithShape="0">
                <a:gsLst>
                  <a:gs pos="0">
                    <a:srgbClr val="dbec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35680" y="1314720"/>
                <a:ext cx="533160" cy="142560"/>
              </a:xfrm>
              <a:prstGeom prst="rect">
                <a:avLst/>
              </a:prstGeom>
              <a:gradFill rotWithShape="0">
                <a:gsLst>
                  <a:gs pos="0">
                    <a:srgbClr val="dbec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35680" y="1516320"/>
                <a:ext cx="533160" cy="142560"/>
              </a:xfrm>
              <a:prstGeom prst="rect">
                <a:avLst/>
              </a:prstGeom>
              <a:gradFill rotWithShape="0">
                <a:gsLst>
                  <a:gs pos="0">
                    <a:srgbClr val="dbec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186600" y="885960"/>
              <a:ext cx="1009440" cy="1000080"/>
              <a:chOff x="6186600" y="885960"/>
              <a:chExt cx="1009440" cy="10000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86600" y="885960"/>
                <a:ext cx="100944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6424560" y="1112760"/>
                <a:ext cx="533520" cy="142920"/>
              </a:xfrm>
              <a:prstGeom prst="rect">
                <a:avLst/>
              </a:prstGeom>
              <a:gradFill rotWithShape="0">
                <a:gsLst>
                  <a:gs pos="0">
                    <a:srgbClr val="dbec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426360" y="1314720"/>
                <a:ext cx="533160" cy="142560"/>
              </a:xfrm>
              <a:prstGeom prst="rect">
                <a:avLst/>
              </a:prstGeom>
              <a:gradFill rotWithShape="0">
                <a:gsLst>
                  <a:gs pos="0">
                    <a:srgbClr val="dbec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26360" y="1516320"/>
                <a:ext cx="533160" cy="142560"/>
              </a:xfrm>
              <a:prstGeom prst="rect">
                <a:avLst/>
              </a:prstGeom>
              <a:gradFill rotWithShape="0">
                <a:gsLst>
                  <a:gs pos="0">
                    <a:srgbClr val="dbec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577280" y="885960"/>
              <a:ext cx="1009440" cy="1000080"/>
              <a:chOff x="7577280" y="885960"/>
              <a:chExt cx="1009440" cy="1000080"/>
            </a:xfrm>
          </p:grpSpPr>
          <p:pic>
            <p:nvPicPr>
              <p:cNvPr id="18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577280" y="885960"/>
                <a:ext cx="100944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7815240" y="1112760"/>
                <a:ext cx="533520" cy="142920"/>
              </a:xfrm>
              <a:prstGeom prst="rect">
                <a:avLst/>
              </a:prstGeom>
              <a:gradFill rotWithShape="0">
                <a:gsLst>
                  <a:gs pos="0">
                    <a:srgbClr val="dbec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817040" y="1314720"/>
                <a:ext cx="533160" cy="142560"/>
              </a:xfrm>
              <a:prstGeom prst="rect">
                <a:avLst/>
              </a:prstGeom>
              <a:gradFill rotWithShape="0">
                <a:gsLst>
                  <a:gs pos="0">
                    <a:srgbClr val="dbec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17040" y="1516320"/>
                <a:ext cx="533160" cy="142560"/>
              </a:xfrm>
              <a:prstGeom prst="rect">
                <a:avLst/>
              </a:prstGeom>
              <a:gradFill rotWithShape="0">
                <a:gsLst>
                  <a:gs pos="0">
                    <a:srgbClr val="dbecfe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6242760" y="284472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N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17320" y="3454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SS VN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89560" y="4064040"/>
              <a:ext cx="22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.NET Framework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58160" y="467352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in2k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8078760" y="0"/>
            <a:ext cx="1065240" cy="1206360"/>
            <a:chOff x="8078760" y="0"/>
            <a:chExt cx="1065240" cy="1206360"/>
          </a:xfrm>
        </p:grpSpPr>
        <p:pic>
          <p:nvPicPr>
            <p:cNvPr id="197" name="" descr=""/>
            <p:cNvPicPr/>
            <p:nvPr/>
          </p:nvPicPr>
          <p:blipFill>
            <a:blip r:embed="rId21"/>
            <a:stretch/>
          </p:blipFill>
          <p:spPr>
            <a:xfrm>
              <a:off x="8078760" y="0"/>
              <a:ext cx="10605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8229600" y="490680"/>
              <a:ext cx="914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egoe Semibold"/>
                </a:rPr>
                <a:t>Cont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egoe Semibold"/>
                </a:rPr>
                <a:t>Managemen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22:31:38Z</dcterms:created>
  <dc:creator>Arpan Shah</dc:creator>
  <dc:description/>
  <dc:language>en-US</dc:language>
  <cp:lastModifiedBy>ashok</cp:lastModifiedBy>
  <dcterms:modified xsi:type="dcterms:W3CDTF">2005-12-30T17:00:09Z</dcterms:modified>
  <cp:revision>34</cp:revision>
  <dc:subject/>
  <dc:title>CMS and SPS VNext</dc:title>
</cp:coreProperties>
</file>